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29D-60DE-4C00-9ED4-A17ED57C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7FC-623F-4295-8AF6-15958CF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447-8266-4724-8EF7-F8FC7740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B8E-E3F0-45FE-8C26-709D106B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ED6-66F8-4F11-939E-8D3B863E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1A2-04C9-4874-AC9D-B3A208CE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491-5936-4233-9875-2C7FF08F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073-5165-4081-8C0B-435AD6F1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78F-48E5-4B3B-B9C7-567510E5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764-8395-49F0-A5B7-CFC81B2E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AB8-E277-4252-B141-8E746DE5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F2F-AA89-4C48-B530-FD3FC601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1225-19E3-4E44-8865-CE7B83289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684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i="1" lang="en-US" sz="44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νωριμία με συμμαθητές και καθηγητέ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νάλυση θέματος σε επιμέρους παραρτήματ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483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ιαχωρισμός των μαθητών σε 4 ομάδ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25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αζήτηση και αξιολόγηση αξιόπιστων και μη πληροφορ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ύνταξη ερωτηματολογί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υμπλήρωση ερωτηματολογίων από πολίτες διαφόρων ηλικ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ξιολόγηση και επιλογή τοίχου για σχεδιασμό έργ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i="1" lang="en-US" sz="4000" spc="-1" strike="noStrike" u="sng" baseline="30000">
                <a:solidFill>
                  <a:srgbClr val="000000"/>
                </a:solidFill>
                <a:uFillTx/>
                <a:latin typeface="Arial"/>
              </a:rPr>
              <a:t>ο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βήμ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λοκλήρωση εργασ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στατιστικών από τα ερωτηματολόγι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γκέντρωση ομαδικών και ατομικών ημερολογίω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user03</cp:lastModifiedBy>
  <dcterms:modified xsi:type="dcterms:W3CDTF">2013-01-15T11:59:42Z</dcterms:modified>
  <cp:revision>4</cp:revision>
  <dc:subject/>
  <dc:title>52</dc:title>
</cp:coreProperties>
</file>